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16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9.png" ContentType="image/png"/>
  <Override PartName="/ppt/media/image17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86C-B6DE-4A20-A03C-F1CB2F06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5E7-E017-4C5D-A963-698C5333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BAC-8572-4C6A-A268-41BF64E9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217-4F43-4ACA-894A-764C0E67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8B40-B0A6-4915-8CB9-602E3170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735B-CD20-49C6-9231-14D3EBE0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491A-8F44-43BB-B48F-F5B748D8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1A88-3072-423F-B9EE-7CD3B7B3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FC8C-2004-4687-84E0-0EFB1909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9476-0866-4180-A2A6-B472F1EE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1ED4-20FF-421D-82A3-EF252B14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93A-247A-4730-9245-5E063810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B1FA-9C23-44AA-86EB-B843C40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3B8A-1012-408D-80F2-6D44B2B7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D39F-09B0-4363-9166-361CBB30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03FA-D6B2-42B1-9427-6C24F381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4799-00B9-41D7-832D-D1BB98C4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1F41D-E547-4C7B-8167-C8CD57C8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EFD7-3AFA-451D-A66A-B38DB0A5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A5A4-8115-4CE5-986E-75EAD40C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A82B-1270-4699-80C3-C8855330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404E-D6E3-42D4-9F01-41BFB3A0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833-EA16-4EBB-A927-8FB030F1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0236-9367-4052-880D-3C737E5E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F1B6-DFA7-4496-8D50-6C96D0D3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F942-52A6-40EA-A598-09EE8EA7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0A24-D286-4535-A718-D8C4251E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C25D-411E-4A62-90F3-29AB586A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A9D8D-BC6F-4781-8BD9-A7F52AC0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104BA-C3D0-47AB-9209-772780DD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A1FE-D96C-4AA0-A685-66668EEA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421C-8680-455C-9FB3-B547AF3B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002E-8BC1-4C5B-8F2D-87226F6C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68A-4CF8-4FD4-AAF8-FC343208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F6794-31E7-49B8-8A53-961CF6EE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46E2-3533-483A-9D97-1DE245A8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8602-167E-40A9-991A-2E04154F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C5D7-7E68-4181-B56B-D6CA813B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30BC-F629-4820-BE21-3A7A003D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B278-634B-4C97-B21D-AC332ADF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0A3B8-8838-4D90-8AE1-5A93B52A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54299-8D6B-47C9-808A-AE831792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B815-38D3-4AB9-A509-96758326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04225-6EE7-41A1-A2FC-D210A441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9B5-F4FC-4272-A424-4E5EC4B5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10804-D3A6-4C42-B2D3-E1A38E6D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5349D-E7BF-48FC-A0DD-778F2D92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B379-DAD2-4194-B5F7-8B04E8A9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F1DA-CFEB-482E-9F9D-A6F27E60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16E92-0B9F-42F5-9C48-96E29077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D886F-976E-4BE6-9470-C3EBAF99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128C2-D16F-4E41-8DC8-81A6E136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7A6F1-69B9-4B88-B180-A1DC88A4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B5BD4-5D43-42D8-8375-2E8BEDC8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0CECE-9032-45A0-B25E-3D457229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6B5-CAE0-423A-943A-33E2FA09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78AD9-39FC-43B8-BF9B-2003EA82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05911-6C1D-42FA-83B8-84A9017E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A2BC2-AF7B-4FC3-BD1A-7710DC3E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75A0B-0C83-4AB1-8810-D6EB1B1D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E5D21-17D6-46FA-95B6-90B4E0C4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512E1-2713-4369-83F9-3B5C78D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0E8BC-BE61-4352-B0FE-22EB53CE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99254-380E-466B-B4FF-C8B50FDD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36CAB-A460-4DF2-B791-211AF3AF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CD31-C6A4-4784-AACC-990F211E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1CF-B4B7-4839-B251-0898172C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439DB-610A-4691-A7A2-69EAB5F8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CBF48-172B-40C4-9B63-022FCCA5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7E637-EAF6-40AE-878D-044F18FC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5673E-9370-41A1-B225-3828C100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B911E-CFB3-408E-95CF-C42E8BBD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4F60-AE3F-49C5-A2E5-6DA73057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D19EF-BEB1-4769-BE95-7D79873D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E21D8-51BD-44BC-9052-E0300FCB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509EE-041A-4DBA-9F36-1FB896FA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289A1-3335-429F-8D82-A5A669D7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7C4-30CA-45EC-881C-3AD852B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A6B4D-B602-49ED-9437-CEE3A8C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2C6A2-79CC-46FC-BEE9-5094CB54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E3355-972D-48FA-AA66-AA58DA4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CA55E-FD51-4E9F-8E51-92E84E8E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1C231-A77A-4DEC-A340-E92C9C40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14BE8-2350-4521-902C-5D1C08AA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F51A9-8EA3-414E-9EB9-B0444C8E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775CC-357B-494D-9994-D65C468A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CF3F8-3F51-4E7C-9305-9027CEF3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A006F-95F4-4E8B-AEA4-641FF656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1F1-5B46-4A09-B30B-FD50201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7E10C-7682-46C7-95B1-7E13CDC5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F889C-C461-4D2A-8EF1-355F4844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5CBF1-0310-4884-B602-3F501A57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9051F-AD6B-4AAF-B4F1-244B1FF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386DB-BB22-4E45-81C4-3CAC2DDB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C8585-71ED-4589-B708-98956038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38385-D542-4ADA-9B03-C155721D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23B0-252F-4682-A23A-235C482242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EF6E-D2F3-4D17-8B21-D2A7EB9C78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08DA-89CF-428B-9C61-0D95B6DE7D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8E35-4DBE-4D97-85D5-CED42E6D3D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EEA3-C056-44AD-B80B-8929C4937E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5951-DDBE-47CC-A84A-C528E82E62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0E6D-4D30-4982-B16F-ED0756D5E1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6A23-B222-47E3-BE98-151451A2FE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26960" y="682560"/>
            <a:ext cx="8435880" cy="2225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46"/>
                </a:solidFill>
                <a:latin typeface="Lucida Sans Unicode"/>
              </a:rPr>
              <a:t>Участники проекта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Герасимов 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Герасимова 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Денисова 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Кулик 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Шарыгина 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4267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914400" y="1481040"/>
            <a:ext cx="716292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А) Построение чертежа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Б) Построение плана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6632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243792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Построение окружности с помощью циркул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Построение композиции из различных линий и фигур с помощью циркул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3152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22824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Габова М.А. Технология развития пространственного мышления и графических умений у детей 6-7 лет,М.,2008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2.Квач Н.В Развитие образного мышления, и графических навыков у детей 5-7 лет, М.,2001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3.Брофман В. Архитектурная школа имени папы Карло. Книга для для детей и взрослых. М., Линка Пресс 2001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4.Павлова Т.Л. Диагностика готовности ребенка к школе.М., 2006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5.Крушельницкая А.Н. Вправо , влево, вверх, вниз – развитие пространственного восприятия у детей 6-7 лет. М.,2004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                      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D:\Всё для презентаций\Для презентаций\Насекомые\Ползающие\CRAWL017.jpg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1" name="TextBox 18" descr=""/>
          <p:cNvPicPr/>
          <p:nvPr/>
        </p:nvPicPr>
        <p:blipFill>
          <a:blip r:embed="rId2"/>
          <a:stretch/>
        </p:blipFill>
        <p:spPr>
          <a:xfrm>
            <a:off x="146160" y="66600"/>
            <a:ext cx="5364000" cy="1384200"/>
          </a:xfrm>
          <a:prstGeom prst="rect">
            <a:avLst/>
          </a:prstGeom>
          <a:ln w="0">
            <a:noFill/>
          </a:ln>
        </p:spPr>
      </p:pic>
      <p:pic>
        <p:nvPicPr>
          <p:cNvPr id="402" name="TextBox 19" descr=""/>
          <p:cNvPicPr/>
          <p:nvPr/>
        </p:nvPicPr>
        <p:blipFill>
          <a:blip r:embed="rId3"/>
          <a:stretch/>
        </p:blipFill>
        <p:spPr>
          <a:xfrm>
            <a:off x="1785960" y="2786040"/>
            <a:ext cx="2639880" cy="1432080"/>
          </a:xfrm>
          <a:prstGeom prst="rect">
            <a:avLst/>
          </a:prstGeom>
          <a:ln w="0">
            <a:noFill/>
          </a:ln>
        </p:spPr>
      </p:pic>
      <p:pic>
        <p:nvPicPr>
          <p:cNvPr id="403" name="TextBox 20" descr=""/>
          <p:cNvPicPr/>
          <p:nvPr/>
        </p:nvPicPr>
        <p:blipFill>
          <a:blip r:embed="rId4"/>
          <a:stretch/>
        </p:blipFill>
        <p:spPr>
          <a:xfrm>
            <a:off x="3614760" y="4998960"/>
            <a:ext cx="5846760" cy="1432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Кодирование информаци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процесс формирования определённого представления информации. В более узком смысле переход от одной формы представления информации к другой, более удобной для хранения, передачи или обработки.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D:\мои документы\маша\математика\Дидактические материалы на урок ИКТ\письмо.gif"/>
          <p:cNvPicPr/>
          <p:nvPr/>
        </p:nvPicPr>
        <p:blipFill>
          <a:blip r:embed="rId2"/>
          <a:stretch/>
        </p:blipFill>
        <p:spPr>
          <a:xfrm>
            <a:off x="3200400" y="457200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Как помочь ребёнку освоить способы кодирования графической информации?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мои документы\маша\математика\Дидактические материалы на урок ИКТ\мальчик.gif"/>
          <p:cNvPicPr/>
          <p:nvPr/>
        </p:nvPicPr>
        <p:blipFill>
          <a:blip r:embed="rId2"/>
          <a:stretch/>
        </p:blipFill>
        <p:spPr>
          <a:xfrm>
            <a:off x="5867280" y="3809880"/>
            <a:ext cx="2909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ть литературу по проблем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анализировать вариативные комплексные программы по проблем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работать диагностические задания, составить диагностику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ставить буклет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ставить отчётную презентацию по проделанной нами работ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*Осуществление основных графических операц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*Построение графических изображений по образцу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*Создание изображения конструкции мод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*Осуществление основных графических операций и геометрических изображений с помощью циркул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D:\мои документы\маша\математика\Дидактические материалы на урок ИКТ\ученик.gif"/>
          <p:cNvPicPr/>
          <p:nvPr/>
        </p:nvPicPr>
        <p:blipFill>
          <a:blip r:embed="rId2"/>
          <a:stretch/>
        </p:blipFill>
        <p:spPr>
          <a:xfrm>
            <a:off x="304920" y="3049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Построение от рук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Соединение точек, лин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Штриховка в заданном направлен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) Построение дорожек в разных конфигурациях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) Построение композиций из линий различных типов и разных фигур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Построение с использованием чертёжно – графических инструментов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Соединение точек с помощью линей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Построение линий с помощью линей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) Построение окружности с помощью циркул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-126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286000"/>
            <a:ext cx="822960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С использованием полного образц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Копирован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Обведение по лин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С использованием частичного образц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Построение по точка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Построение по штриховой лин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8:19:27Z</dcterms:created>
  <dc:creator>алена</dc:creator>
  <dc:description/>
  <dc:language>en-US</dc:language>
  <cp:lastModifiedBy>алена</cp:lastModifiedBy>
  <dcterms:modified xsi:type="dcterms:W3CDTF">2011-01-09T22:13:39Z</dcterms:modified>
  <cp:revision>17</cp:revision>
  <dc:subject/>
  <dc:title>Кодирование графической информации</dc:title>
</cp:coreProperties>
</file>